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CC96-A7EE-4EAC-A190-0FD338A8B1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86BC-0D3D-4F0E-B1CC-D346AA814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4A1-299E-41AA-897A-56F1BFEC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C31-8754-4A0F-9F9F-9002F7F2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B95-E89C-4268-89FD-4D974649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D2B-ADFF-41DF-AE3A-4746B764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62F-7EB8-4F5A-9C1A-99CD4887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1F9-9B7C-420A-9D30-9878A0E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576-7116-42F6-BAB3-4FFF9E69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E19-D4FD-423B-BE95-11B0E7EF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0EA-129B-4E9C-A5E4-2B95CD99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B0B-E4E0-4354-84A9-AD6CCE3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BE6-613D-4BF4-B6ED-D2EBF01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C22-4C5C-4F4F-B9EF-2F24D9E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9B4-298A-458E-ACEA-62B0F1323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7320" y="5143680"/>
            <a:ext cx="5817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Муниципальное бюджетное общеобразовательное учреждение «Средняя общеобразовательная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школа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7080" y="1500120"/>
            <a:ext cx="90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Образовательное простран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подростковой школы (5,6 клас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64680" y="28584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25800" y="928800"/>
            <a:ext cx="858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типовая школа с бюджетным финансированием, расположенна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м микрорайоне небольшого города, у нас нет отбора учеников и у н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е обычные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замечательные ученики, талантливый педагогический коллекти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й много лет ищет и находит новые приемы, методы и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ы в  изменяющейся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67560" y="3786120"/>
            <a:ext cx="41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, стоящие перед н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76920" y="4643280"/>
            <a:ext cx="53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у и как учить подрост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задачи подростка может решить шко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07240" y="928800"/>
            <a:ext cx="78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Образовательное пространство подростковой школы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68360" y="17859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недрение новых форм оценивания учебных достижений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здание образовательного пространства для детей, обучающихся по    разны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рганизация мест проб учащимися своих возможностей в социаль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нтеллектуальной, личностной, межличностной сф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бразовательное, но не обязательно учебное пространство проб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оциаль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амоопределение подростка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разовательные технологии подростков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95280" y="1052640"/>
            <a:ext cx="27352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ци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4643280" y="4071960"/>
            <a:ext cx="4032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ичностно-ориентирова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5867280" y="1916280"/>
            <a:ext cx="433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003640" y="2852640"/>
            <a:ext cx="1656000" cy="28728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042920" y="191628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2195640" y="1916280"/>
            <a:ext cx="215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60360" y="2781360"/>
            <a:ext cx="1547640" cy="28872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цпрое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2124000" y="2781360"/>
            <a:ext cx="1584360" cy="86508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е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ци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1330200" y="4000680"/>
            <a:ext cx="27370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ьютор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 flipH="1">
            <a:off x="1619280" y="47196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395280" y="5367240"/>
            <a:ext cx="4033800" cy="134136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зновозрастные клубы, реш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просы дополни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разования и организ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спитательное 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6"/>
          <p:cNvSpPr/>
          <p:nvPr/>
        </p:nvSpPr>
        <p:spPr>
          <a:xfrm>
            <a:off x="5724360" y="981000"/>
            <a:ext cx="295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ебное 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7500960" y="4923000"/>
            <a:ext cx="216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6357960" y="5494320"/>
            <a:ext cx="2160720" cy="114300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ариати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зисного учеб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л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7524720" y="191628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6948360" y="2852640"/>
            <a:ext cx="1800360" cy="43200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роки, 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13760" y="140040"/>
            <a:ext cx="857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Организация занятий по методикам КСО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считаем в подростковой шк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необходимым: при переходе из начальной школы в сред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звено ученики необходимо адаптироваться, ликвидировать образов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дефициты и продолжить развитие коммуникативных навы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Достижение этой цели мы прямо связываем с индивидуализ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образовательного процесса. Считаем, что модель «учитель- переда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информации» уже несколько устарела. Теперь востребована друг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«наставник и методист», который должен научить ребенка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ыстраивать свою траекторию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62440" y="3467880"/>
            <a:ext cx="854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Первый прецедент нашей образовательной прак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построение такого учебного процесса, который дает возможность кажд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ученику реализовать его потребности, позволит общаться с другим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учебным вопросам, высказываться во время урока, получать своеврем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консульт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307440" y="5711760"/>
            <a:ext cx="86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В 5,6 классах занятия по методикам КСО организованы по предметам исто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русский язык, математика, природ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91EE-6943-44AA-80FF-22FA7ED47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9"/>
          <p:cNvSpPr/>
          <p:nvPr/>
        </p:nvSpPr>
        <p:spPr>
          <a:xfrm>
            <a:off x="1692360" y="1352520"/>
            <a:ext cx="612144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732040" y="152172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Индивидуальное табл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80600" y="254412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 ученика ______________________________ Класс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3192480"/>
          <a:ext cx="8496360" cy="2879640"/>
        </p:xfrm>
        <a:graphic>
          <a:graphicData uri="http://schemas.openxmlformats.org/drawingml/2006/table">
            <a:tbl>
              <a:tblPr/>
              <a:tblGrid>
                <a:gridCol w="539640"/>
                <a:gridCol w="1224000"/>
                <a:gridCol w="1795320"/>
                <a:gridCol w="1230480"/>
                <a:gridCol w="2266920"/>
                <a:gridCol w="1440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л осво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ос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умения коммуникаций отрабатыв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а ли консультация учител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1, К-2, передать 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1, К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л 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лушать, вникать в суть услышанного, задавать корректно вопросы, воспроизводить услыша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графия. Получить К1, К2, передатьК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ное усвоение информации, передача изучаемых сведений без иска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Box 7"/>
          <p:cNvSpPr/>
          <p:nvPr/>
        </p:nvSpPr>
        <p:spPr>
          <a:xfrm>
            <a:off x="292320" y="2142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-13680" y="130320"/>
            <a:ext cx="862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ариативная часть БУП в 5, 6 классах, на наш взгляд, призвана пом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образованию учащихся на </a:t>
            </a:r>
            <a:r>
              <a:rPr b="0" lang="ru-RU" sz="1800" spc="-1" strike="noStrike" u="sng">
                <a:solidFill>
                  <a:srgbClr val="222268"/>
                </a:solidFill>
                <a:uFillTx/>
                <a:latin typeface="Arial"/>
                <a:ea typeface="Times New Roman"/>
              </a:rPr>
              <a:t>личностном уровне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– смысловом, субъектив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осприятии действительности. Такое восприятие действительности 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при имитации жизненных ситуаций. Которые требуют сопоставления од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ценностей с другими, исследования смыслов, возможность апробировать э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ценности в действии и общении с другими людьми. Мы считаем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технологический комплекс вариативной части БУП в 5-ом классе дол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ключать следующие компоненты: «Задача – проект – диалог - иг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-17280" y="3206160"/>
            <a:ext cx="861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торой прецедент нашей образовательной прак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 рамках проекта помочь образованию учащихся 5-ых классов на личност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уровне – актуализировать потребности в само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284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кольный компонент 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079640"/>
          <a:ext cx="8229600" cy="529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класс (3 клас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 класс (2 клас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Программа развития способности к самопознанию и уверенности в себ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Создание мультимедийных презентац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М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Художественная обработка материал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луб «Любители английского язы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Мой горо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Занимательная математ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новы исследователь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Диалог культу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новы журнали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рок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рок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Школа социального проект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Школа учебного проект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Свободный разгово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чало теории вероятности с элементами комбинатор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анятия ТРИ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анятия ТР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ндивидуальные к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ндивидуальные к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6" name="TextBox 3"/>
          <p:cNvSpPr/>
          <p:nvPr/>
        </p:nvSpPr>
        <p:spPr>
          <a:xfrm>
            <a:off x="291960" y="1429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1:42:05Z</dcterms:created>
  <dc:creator>Жданова</dc:creator>
  <dc:description/>
  <dc:language>en-US</dc:language>
  <cp:lastModifiedBy>татьяна</cp:lastModifiedBy>
  <dcterms:modified xsi:type="dcterms:W3CDTF">2012-01-10T11:13:15Z</dcterms:modified>
  <cp:revision>50</cp:revision>
  <dc:subject/>
  <dc:title>Слайд 1</dc:title>
</cp:coreProperties>
</file>