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8A0B-6BDA-4B88-9CE7-D497EBC5B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A37B-3BBA-4469-B2BE-A1D3B36A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C9AB-881D-4233-A0E0-30A8A7A33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CB86-C0A4-4ABB-97DF-B9697EFED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3A51-8114-4E90-AFCF-FE22F4B5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CD78-6870-42EA-87BA-3204A0AD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ADD0-4AB8-4039-B1BE-8332CC42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99AA-11ED-420C-A628-2B1A6835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9355-B4FD-4CF2-9949-12B500C6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40C1-8518-434A-BBA2-D1D084D4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5B51-2A07-4636-AB65-BD179202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0722-44D4-4F63-80F6-55540152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20AD-21D2-4297-B37A-55D5CFF03C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43;&#1077;&#1086;&#1075;&#1088;&#1072;&#1092;&#1080;&#1103;%20&#1087;&#1088;&#1080;&#1084;&#1077;&#1088;.doc" TargetMode="External"/><Relationship Id="rId2" Type="http://schemas.openxmlformats.org/officeDocument/2006/relationships/hyperlink" Target="file:///&#1043;&#1077;&#1086;&#1075;&#1088;&#1072;&#1092;&#1080;&#1103;%20&#1087;&#1088;&#1080;&#1084;&#1077;&#1088;.doc" TargetMode="External"/><Relationship Id="rId3" Type="http://schemas.openxmlformats.org/officeDocument/2006/relationships/hyperlink" Target="file:///&#1055;&#1083;&#1072;&#1085;&#1080;&#1088;&#1091;&#1077;&#1084;&#1099;&#1077;_&#1088;&#1077;&#1079;&#1091;&#1083;&#1100;&#1090;&#1072;&#1090;&#1099;_&#1087;&#1086;_&#1084;&#1072;&#1090;&#1077;&#1084;&#1072;&#1090;&#1080;&#1082;&#1077;_5-6%5B1%5D.doc" TargetMode="External"/><Relationship Id="rId4" Type="http://schemas.openxmlformats.org/officeDocument/2006/relationships/hyperlink" Target="file:///&#1055;&#1083;&#1072;&#1085;&#1080;&#1088;&#1091;&#1077;&#1084;&#1099;&#1077;_&#1088;&#1077;&#1079;&#1091;&#1083;&#1100;&#1090;&#1072;&#1090;&#1099;_&#1087;&#1086;_&#1084;&#1072;&#1090;&#1077;&#1084;&#1072;&#1090;&#1080;&#1082;&#1077;_5-6%5B1%5D.doc" TargetMode="External"/><Relationship Id="rId5" Type="http://schemas.openxmlformats.org/officeDocument/2006/relationships/hyperlink" Target="file:///&#1050;&#1044;&#1052;%20&#1087;&#1086;%20&#1075;&#1077;&#1086;&#1075;&#1088;&#1072;&#1092;&#1080;&#1080;%20&#1057;&#1072;&#1085;&#1080;&#1085;&#1086;&#1081;.doc" TargetMode="Externa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45820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Образовательное пространство подростковой школы: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100"/>
            </a:b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индивидуализация в логике взросления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Требования к личностным результатам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(на основе примерной ООП подростковой школы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воение подрост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ств и 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честв, необходимых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ффектив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уществления раз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дов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стра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ростковой школ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умение занимать разные позиции в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умение разворачивать разные способы коммун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витие разных видов мышления (практическое,  образно-символическое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4343400" y="1523880"/>
            <a:ext cx="39625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348120" y="333360"/>
            <a:ext cx="879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овательное пространство подростковой школы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468360" y="1785960"/>
            <a:ext cx="8136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внедрение новых форм оценивания учебных достижений подрост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создание образовательного пространства для детей, обучающихся по    разным технолог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организация мест проб учащимися своих возможностей в социальн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интеллектуальной, личностной, межличностной сфе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образовательное, но не обязательно учебное пространство проб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социальных про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самоопределение подростка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ы организации учебной деятельности учащихся в собственно подростковой фазе основной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Модульное обу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огружение - как метод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онцентрированное  обучение (К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оектные  формы  учебной дея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С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ехнология критическое мыш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Интегрированное обу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бразовательные технологии подростковой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5"/>
          <p:cNvSpPr/>
          <p:nvPr/>
        </p:nvSpPr>
        <p:spPr>
          <a:xfrm>
            <a:off x="395280" y="1052640"/>
            <a:ext cx="273528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оциаль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роект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6"/>
          <p:cNvSpPr/>
          <p:nvPr/>
        </p:nvSpPr>
        <p:spPr>
          <a:xfrm>
            <a:off x="4643280" y="4071960"/>
            <a:ext cx="403236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Личностно-ориентирован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 flipH="1">
            <a:off x="5867280" y="1916280"/>
            <a:ext cx="433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5003640" y="2852640"/>
            <a:ext cx="1656000" cy="287280"/>
          </a:xfrm>
          <a:prstGeom prst="rect">
            <a:avLst/>
          </a:prstGeom>
          <a:solidFill>
            <a:srgbClr val="f0da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НО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"/>
          <p:cNvSpPr/>
          <p:nvPr/>
        </p:nvSpPr>
        <p:spPr>
          <a:xfrm flipH="1">
            <a:off x="1042920" y="1916280"/>
            <a:ext cx="216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>
            <a:off x="2195640" y="1916280"/>
            <a:ext cx="21564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360360" y="2781360"/>
            <a:ext cx="1547640" cy="288720"/>
          </a:xfrm>
          <a:prstGeom prst="rect">
            <a:avLst/>
          </a:prstGeom>
          <a:solidFill>
            <a:srgbClr val="f0da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оцпроек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2"/>
          <p:cNvSpPr/>
          <p:nvPr/>
        </p:nvSpPr>
        <p:spPr>
          <a:xfrm>
            <a:off x="2124000" y="2781360"/>
            <a:ext cx="1584360" cy="865080"/>
          </a:xfrm>
          <a:prstGeom prst="rect">
            <a:avLst/>
          </a:prstGeom>
          <a:solidFill>
            <a:srgbClr val="f0da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Мес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оциа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р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3"/>
          <p:cNvSpPr/>
          <p:nvPr/>
        </p:nvSpPr>
        <p:spPr>
          <a:xfrm>
            <a:off x="1330200" y="4000680"/>
            <a:ext cx="273708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Тьютор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опрово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4"/>
          <p:cNvSpPr/>
          <p:nvPr/>
        </p:nvSpPr>
        <p:spPr>
          <a:xfrm flipH="1">
            <a:off x="1619280" y="4719600"/>
            <a:ext cx="287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395280" y="5367240"/>
            <a:ext cx="4033800" cy="1341360"/>
          </a:xfrm>
          <a:prstGeom prst="rect">
            <a:avLst/>
          </a:prstGeom>
          <a:solidFill>
            <a:srgbClr val="f0da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Разновозрастные клубы, решающ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опросы дополнитель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бразования и организующ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оспитательное простра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6"/>
          <p:cNvSpPr/>
          <p:nvPr/>
        </p:nvSpPr>
        <p:spPr>
          <a:xfrm>
            <a:off x="5724360" y="981000"/>
            <a:ext cx="295308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Учебное проект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7"/>
          <p:cNvSpPr/>
          <p:nvPr/>
        </p:nvSpPr>
        <p:spPr>
          <a:xfrm flipH="1">
            <a:off x="7500960" y="4923000"/>
            <a:ext cx="21600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9"/>
          <p:cNvSpPr/>
          <p:nvPr/>
        </p:nvSpPr>
        <p:spPr>
          <a:xfrm>
            <a:off x="6357960" y="5494320"/>
            <a:ext cx="2160720" cy="1143000"/>
          </a:xfrm>
          <a:prstGeom prst="rect">
            <a:avLst/>
          </a:prstGeom>
          <a:solidFill>
            <a:srgbClr val="f0da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ариативн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базисного учеб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ла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0"/>
          <p:cNvSpPr/>
          <p:nvPr/>
        </p:nvSpPr>
        <p:spPr>
          <a:xfrm>
            <a:off x="7524720" y="1916280"/>
            <a:ext cx="216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1"/>
          <p:cNvSpPr/>
          <p:nvPr/>
        </p:nvSpPr>
        <p:spPr>
          <a:xfrm>
            <a:off x="6948360" y="2852640"/>
            <a:ext cx="1800360" cy="432000"/>
          </a:xfrm>
          <a:prstGeom prst="rect">
            <a:avLst/>
          </a:prstGeom>
          <a:solidFill>
            <a:srgbClr val="f0da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Уроки, заня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стема оценки достижения  планируемых  результатов освоения  ОО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11280" y="1557360"/>
          <a:ext cx="7848360" cy="5211720"/>
        </p:xfrm>
        <a:graphic>
          <a:graphicData uri="http://schemas.openxmlformats.org/drawingml/2006/table">
            <a:tbl>
              <a:tblPr/>
              <a:tblGrid>
                <a:gridCol w="3924360"/>
                <a:gridCol w="39240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шняя оценк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енняя оценк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78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товая  диагностика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ентябрь 5 класс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кредитация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образовательного учреждения (экспертиза ООП, оценка общественности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вая государственная аттестация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 национальные экзамены, школьные экзамены (творческий экзамен), оценка внеучебных достижений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d2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цент на </a:t>
                      </a:r>
                      <a:r>
                        <a:rPr b="0" lang="ru-RU" sz="2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формирующее  оценивание</a:t>
                      </a:r>
                      <a:r>
                        <a:rPr b="0" lang="ru-RU" sz="2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ести контрольно-оценочную деятельность  ученика  и педагога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тный характер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и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/>
                        </a:rPr>
                        <a:t>  </a:t>
                      </a:r>
                      <a:r>
                        <a:rPr b="0" lang="ru-RU" sz="2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уровневый характер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межуточной аттестации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/>
                        </a:rPr>
                        <a:t>индивидуальный прогрес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d2d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113760" y="140040"/>
            <a:ext cx="8574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Организация занятий по методикам КСО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 считаем в подростковой шко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необходимым: при переходе из начальной школы в средн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звено ученики необходимо адаптироваться, ликвидировать образовате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дефициты и продолжить развитие коммуникативных навы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Достижение этой цели мы прямо связываем с индивидуализаци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образовательного процесса. Считаем, что модель «учитель- передат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информации» уже несколько устарела. Теперь востребована друга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«наставник и методист», который должен научить ребенка прави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выстраивать свою траекторию развит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62440" y="3467880"/>
            <a:ext cx="8542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Первый прецедент нашей образовательной практ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построение такого учебного процесса, который дает возможность кажд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ученику реализовать его потребности, позволит общаться с другими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учебным вопросам, высказываться во время урока, получать своевременн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консульта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-13680" y="130320"/>
            <a:ext cx="862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Вариативная часть БУП в 5, 6 классах, на наш взгляд, призвана помоч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образованию учащихся на </a:t>
            </a:r>
            <a:r>
              <a:rPr b="0" lang="ru-RU" sz="1800" spc="-1" strike="noStrike" u="sng">
                <a:solidFill>
                  <a:srgbClr val="222268"/>
                </a:solidFill>
                <a:uFillTx/>
                <a:latin typeface="Arial"/>
                <a:ea typeface="Times New Roman"/>
              </a:rPr>
              <a:t>личностном уровне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 – смысловом, субъективн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восприятии действительности. Такое восприятие действительности возмож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при имитации жизненных ситуаций. Которые требуют сопоставления одн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ценностей с другими, исследования смыслов, возможность апробировать э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ценности в действии и общении с другими людьми. Мы считаем, ч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технологический комплекс вариативной части БУП в 5-ом классе долж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включать следующие компоненты: «Задача – проект – диалог - игр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-17280" y="3206160"/>
            <a:ext cx="861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Второй прецедент нашей образовательной практ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В рамках проекта помочь образованию учащихся 5-ых классов на личностн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уровне – актуализировать потребности в саморазвит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42840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Школьный компонент УП на 2011-2012 учебный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68360" y="1079640"/>
          <a:ext cx="8229600" cy="5637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 класс (2 класс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 класс (2 класс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Факультативный курс «Программа развития способности к самопознанию и уверенности в себ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Факультативный курс «Создание мультимедийных презентаций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М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Факультативный курс «Художественная обработка материало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луб «Любители английского язы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Факультативный курс «Мой город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Факультативный курс «Занимательная математи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сновы исследовательск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Факультативный курс «Диалог культур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сновы журналист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рок разви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рок разви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Школа социального проектир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Школа учебного проектир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«Свободный разговор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чало теории вероятности с элементами комбинатор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Занятия ТРИЗ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Занятия ТР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Индивидуальные консульт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Индивидуальные консульт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сего – 13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сего – 13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8491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КУДА ПРЕДМЕТНЫЕ, МЕТАПРЕДМЕТНЫЕ И ЛИЧНОСТНЫЕ РЕЗУЛЬТАТЫ?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ЕБНЫЕ СИТУАЦИИ ПЕРЕДАЧИ «ДЕЯТЕЛЬНОСТНЫХ ОБРАЗЦ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0" y="1371600"/>
            <a:ext cx="9144000" cy="5205240"/>
            <a:chOff x="0" y="1371600"/>
            <a:chExt cx="9144000" cy="5205240"/>
          </a:xfrm>
        </p:grpSpPr>
        <p:sp>
          <p:nvSpPr>
            <p:cNvPr id="97" name="Rectangle 4"/>
            <p:cNvSpPr/>
            <p:nvPr/>
          </p:nvSpPr>
          <p:spPr>
            <a:xfrm>
              <a:off x="2819520" y="1371600"/>
              <a:ext cx="3733560" cy="15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</a:rPr>
                <a:t>ЛИЧНОСТНЫЕ РЕЗУЛЬТА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-ПОЗИЦИЯ УЧЕНИКА                        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- ЗНАНИЯ (ИНДИВИДУАЛЬНЫЙ УРОВЕНЬ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- ИНДИВИДУАЛЬНЫЙ                        ПРОГРЕСС ДЕЙСТВ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 5"/>
            <p:cNvGrpSpPr/>
            <p:nvPr/>
          </p:nvGrpSpPr>
          <p:grpSpPr>
            <a:xfrm>
              <a:off x="0" y="1600200"/>
              <a:ext cx="9144000" cy="4976640"/>
              <a:chOff x="0" y="1600200"/>
              <a:chExt cx="9144000" cy="4976640"/>
            </a:xfrm>
          </p:grpSpPr>
          <p:sp>
            <p:nvSpPr>
              <p:cNvPr id="99" name="Rectangle 6"/>
              <p:cNvSpPr/>
              <p:nvPr/>
            </p:nvSpPr>
            <p:spPr>
              <a:xfrm>
                <a:off x="2057400" y="2971800"/>
                <a:ext cx="5143680" cy="3605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ff"/>
                    </a:solidFill>
                    <a:latin typeface="Arial"/>
                  </a:rPr>
                  <a:t>       </a:t>
                </a:r>
                <a:r>
                  <a:rPr b="1" lang="ru-RU" sz="1600" spc="-1" strike="noStrike">
                    <a:solidFill>
                      <a:srgbClr val="0000ff"/>
                    </a:solidFill>
                    <a:latin typeface="Arial"/>
                  </a:rPr>
                  <a:t>ОСНОВНЫЕ ЭТАПЫ УЧЕБНОГО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Arial"/>
                  </a:rPr>
                  <a:t>                         </a:t>
                </a:r>
                <a:r>
                  <a:rPr b="1" lang="ru-RU" sz="1600" spc="-1" strike="noStrike">
                    <a:solidFill>
                      <a:srgbClr val="0000ff"/>
                    </a:solidFill>
                    <a:latin typeface="Arial"/>
                  </a:rPr>
                  <a:t>ИССЛЕДОВАНИЯ</a:t>
                </a:r>
                <a:r>
                  <a:rPr b="1" lang="ru-RU" sz="1800" spc="-1" strike="noStrike">
                    <a:solidFill>
                      <a:srgbClr val="0000ff"/>
                    </a:solidFill>
                    <a:latin typeface="Arial"/>
                  </a:rPr>
                  <a:t>                         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buClr>
                    <a:srgbClr val="000000"/>
                  </a:buClr>
                  <a:buFont typeface="Arial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Экспериментирование с предметным материалом (практическое/мысленное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buClr>
                    <a:srgbClr val="000000"/>
                  </a:buClr>
                  <a:buFont typeface="Arial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Постановка проблемы и принятие решения (Противоречие в чем? Как с ним работать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buClr>
                    <a:srgbClr val="000000"/>
                  </a:buClr>
                  <a:buFont typeface="Arial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Гипотезы, их проверка и доказательств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buClr>
                    <a:srgbClr val="000000"/>
                  </a:buClr>
                  <a:buFont typeface="Arial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Оформление результатов («статья», «авторское изобретение»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- Применение в новых ситуациях (развитие теории или прикладное значение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ff"/>
                    </a:solidFill>
                    <a:latin typeface="Arial"/>
                  </a:rPr>
                  <a:t>ПЕДАГОГ     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                                   </a:t>
                </a:r>
                <a:r>
                  <a:rPr b="1" lang="ru-RU" sz="1800" spc="-1" strike="noStrike">
                    <a:solidFill>
                      <a:srgbClr val="0000ff"/>
                    </a:solidFill>
                    <a:latin typeface="Arial"/>
                  </a:rPr>
                  <a:t>УЧЕНИК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7"/>
              <p:cNvSpPr/>
              <p:nvPr/>
            </p:nvSpPr>
            <p:spPr>
              <a:xfrm>
                <a:off x="0" y="1600200"/>
                <a:ext cx="2133720" cy="4343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ff"/>
                    </a:solidFill>
                    <a:latin typeface="Arial"/>
                  </a:rPr>
                  <a:t>УПРАВЛЯЮЩАЯ ПОЗИЦИЯ ПЕДАГОГ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- СЦЕНИРОВАНИЕ ВЗАИМОДЕЙСТВИЙ С  УЧЕНИКАМИ ДЛЯ ИССЛЕДОВ. ПОИСКА           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- УПРАВЛЕНИЕ РЕАЛЬНЫМ ПРОЦЕССОМ ПОИСКА УЧЕНИКОВ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- ОЦЕНКА ПРОЦЕССА И РЕЗУЛЬТАТОВ ПОИСКА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ff"/>
                    </a:solidFill>
                    <a:latin typeface="Arial"/>
                  </a:rPr>
                  <a:t>В ТРЕХ СЛОЯХ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ff"/>
                    </a:solidFill>
                    <a:latin typeface="Arial"/>
                  </a:rPr>
                  <a:t>- В ПРЕДМЕТНОМ МЫШЛЕНИИ И ДЕЯТЕЛЬНОСТИ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ff"/>
                    </a:solidFill>
                    <a:latin typeface="Arial"/>
                  </a:rPr>
                  <a:t>- В КОММУНИКАЦИИ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ff"/>
                    </a:solidFill>
                    <a:latin typeface="Arial"/>
                  </a:rPr>
                  <a:t>- В СЛОЕ  СУБЪЕКТНОСТИ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8"/>
              <p:cNvSpPr/>
              <p:nvPr/>
            </p:nvSpPr>
            <p:spPr>
              <a:xfrm>
                <a:off x="7162920" y="1600200"/>
                <a:ext cx="1981080" cy="441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ff"/>
                    </a:solidFill>
                    <a:latin typeface="Arial"/>
                  </a:rPr>
                  <a:t>УПРАВЛЯЮЩАЯ ПОЗЦИЯ УЧЕНИК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00"/>
                    </a:solidFill>
                    <a:latin typeface="Arial"/>
                  </a:rPr>
                  <a:t>ПР - 1  -</a:t>
                </a: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 ПОНИМАТЬ «ОБРАЗЕЦ» ПЕДАГОГА И ВОСПРОИЗВОДИТЬ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00"/>
                    </a:solidFill>
                    <a:latin typeface="Arial"/>
                  </a:rPr>
                  <a:t>МЕТАПР - 1 –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ОСВОИТЬ ЛОГИКУ ОБУЧЕНИЯ ИССЛЕДОВАНИЮ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00"/>
                    </a:solidFill>
                    <a:latin typeface="Arial"/>
                  </a:rPr>
                  <a:t>ПР - 2  - </a:t>
                </a: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ПРОБЛЕМАТИЗИРОВАТЬ, РАЗВИВАТЬ, ИНТЕРПРЕТИРОВАТЬ ДЕЙСТВИЯ НА ВСЕХ ЭТАПАХ ИССЛЕДОВАНИЯ          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00"/>
                    </a:solidFill>
                    <a:latin typeface="Arial"/>
                  </a:rPr>
                  <a:t>МЕТАПР - 2 – </a:t>
                </a: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ОСВОИТЬ ЛОГИКУ  ИССЛЕДОВАН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9"/>
              <p:cNvSpPr/>
              <p:nvPr/>
            </p:nvSpPr>
            <p:spPr>
              <a:xfrm flipH="1">
                <a:off x="2666880" y="5791320"/>
                <a:ext cx="106704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10"/>
              <p:cNvSpPr/>
              <p:nvPr/>
            </p:nvSpPr>
            <p:spPr>
              <a:xfrm>
                <a:off x="5410080" y="5791320"/>
                <a:ext cx="10670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2"/>
          <p:cNvSpPr/>
          <p:nvPr/>
        </p:nvSpPr>
        <p:spPr>
          <a:xfrm>
            <a:off x="435600" y="857160"/>
            <a:ext cx="77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Основные проблемы, выделенные нами при построении моде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подростковой школ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408600" y="2071800"/>
            <a:ext cx="665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Как увидит подросток динамику собственного взро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Какова динамика оценки проб и интересов подрос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Все ли выделенные нами места будут работать на возр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ак кто, он подросток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Уже не совсем ребенок, но еще не вполне юноша, он возникает на жизненной сцене, хрупкий и тонкий, странно отчужденный от всех. Резкий профиль. Голос, словно сорвавшийся, «перегоревший». Улыбка, от которой лицо не хорошеет, а сдвигается в гримасе. Вызов, холодность во всем. Мучительная проблемность и внутри, в сознании, и снаружи, в поведении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льшанский Д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дущие причины неуспеваемости подростк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иженная обучаемость школьни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достатки в развитии познавательных процесс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дагогическая запущен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ллектуальная пассив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ьно – типологические особен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сутствие адекватной мотивации у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549000"/>
            <a:ext cx="822960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чем подростку школ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му учить подрост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не учить? Какие задачи ПОДРОСТКА может решить школ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может быть, учить совсем не математике и русскому языку, а чему-то друго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как учи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все-таки не учить? Может быть, нужна совсем другая позиция во взаимодействии подростка и школ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как может жить школа, которая зачем-то нужна подростку, как-то чему-то его учит и как-то зачем-то с ним взаимодейству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Выделение двух этапов 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в основной школе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1 этап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бразовательный переход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5-6 класс), этап «пробно-поисковый» (пробы себя в  разных видах деятельности и их связках – притязания подростка и их реализация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2 этап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личного самоопределени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7-9 класс),  этап активного  приобретения  «опыта» продуктивных действий (переход от притязаний к намерениям и продуктивным действиям в разных видах деятельност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3048120" y="4191120"/>
            <a:ext cx="28954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Поляризованное пространство подростковой школ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Возрастной полюс - взросление посредством уч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изучение предмета в учебно-исследовательском режиме совместно с учениками и педагогом на противоречиво-сконструированном педагогом предметном материа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творческие, авторские, самостоятельные работы подростков, выстроенные в логике проектного действия: подготовка – опыт –демонстр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творческие работы разных жанров: аналитические и исследовательские (пересечение учебного исследования и проектных форм деятельност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Оргформы для полюса взросл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вне-уроков - предметно-исследовательские клубы (5-6 класс), предметные мастерские и выезды (7-9 класс), лаборатории (старшая школ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на уроках – учебно-исследовательские модули (классно-урочная система -массовая школа) // Предметные - межпредметные погружения (концентрированное обучение по А.Б. Воронцов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Вневозрастной полюс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 -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взросление по сопричастности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име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ыта учебно-проектной и учебно-исследовательской деятельности 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ициативе самого подростка, а также освоение других схем действ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оциальные проекты и их реал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портивная деяте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искусство и художественные практ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Оргформы для вневозрастного полюс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Акции, Состязания, Марафоны, Студии и т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ОП –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программа  действий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астников образовательного процесса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возрастной динам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Стержень ООП начальной школы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овление индивидуального субъекта учебной деятельност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умение и желание преобразовывать себя в учебном действи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Стержень ООП подростковой школы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овление индивидуального субъекта в разных видах деятельност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построение образа себя в разных схемах действий и на разном предметном материале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99cc00"/>
                </a:solidFill>
                <a:latin typeface="Arial"/>
              </a:rPr>
              <a:t>проектные формы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решение учебных, предметно-практических проблем – проектная логи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99cc00"/>
                </a:solidFill>
                <a:latin typeface="Arial"/>
              </a:rPr>
              <a:t>исследовательские формы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открытие нового предметного знания – доказательные рассужд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99cc00"/>
                </a:solidFill>
                <a:latin typeface="Arial"/>
              </a:rPr>
              <a:t>социальные практики и разновозрастные продуктивные виды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спортивная, трудовая, театр,… - сопричастность, результативность и общ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Стержень ООП старшей школы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ение старшеклассниками индивидуальных образовательных траекторий на основе опыта и результатов деятельностей подростковой школ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выбор своего образовательного пути на основе «деятельностного» образа себ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Требования к предметным результатам</a:t>
            </a:r>
            <a:br>
              <a:rPr sz="3300"/>
            </a:b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(на основе примерной ООП А.Б. Воронцова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"/>
          <p:cNvGrpSpPr/>
          <p:nvPr/>
        </p:nvGrpSpPr>
        <p:grpSpPr>
          <a:xfrm>
            <a:off x="609480" y="1447920"/>
            <a:ext cx="7925040" cy="4647960"/>
            <a:chOff x="609480" y="1447920"/>
            <a:chExt cx="7925040" cy="4647960"/>
          </a:xfrm>
        </p:grpSpPr>
        <p:sp>
          <p:nvSpPr>
            <p:cNvPr id="58" name="Rectangle 4"/>
            <p:cNvSpPr/>
            <p:nvPr/>
          </p:nvSpPr>
          <p:spPr>
            <a:xfrm>
              <a:off x="609480" y="1447920"/>
              <a:ext cx="4419720" cy="464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9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Arial"/>
                </a:rPr>
                <a:t>Освоение подростками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9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культурных способов 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9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средств действий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9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в определенной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9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предметной области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9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Arial"/>
                </a:rPr>
                <a:t>в процессе 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9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Arial"/>
                </a:rPr>
                <a:t>учебно-проектной // 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9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Arial"/>
                </a:rPr>
                <a:t>учебно-исследовательской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9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Arial"/>
                </a:rPr>
                <a:t>видов деятельност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5" descr=""/>
            <p:cNvPicPr/>
            <p:nvPr/>
          </p:nvPicPr>
          <p:blipFill>
            <a:blip r:embed="rId1"/>
            <a:stretch/>
          </p:blipFill>
          <p:spPr>
            <a:xfrm>
              <a:off x="5029200" y="1447920"/>
              <a:ext cx="3505320" cy="4343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Требования к метапредметным результатам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(на основе примерной ООП А.Б. Воронцова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886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ор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ых  ключев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петентност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орые должны бы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формированы в х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воения обучающими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ных форм и ви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ятельност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реализуем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сновной образователь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решение пробл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роведение доказательных рассужд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разные способы работы с информац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способы ведения диал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самостоятельность в уче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4419720" y="175248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01:42:05Z</dcterms:created>
  <dc:creator>Жданова</dc:creator>
  <dc:description/>
  <dc:language>en-US</dc:language>
  <cp:lastModifiedBy>татьяна</cp:lastModifiedBy>
  <dcterms:modified xsi:type="dcterms:W3CDTF">2011-11-22T12:00:32Z</dcterms:modified>
  <cp:revision>65</cp:revision>
  <dc:subject/>
  <dc:title>Слайд 1</dc:title>
</cp:coreProperties>
</file>