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F3E-2EF5-4897-B9EA-FB74F34F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A7B-2D86-4A39-A07B-8FC49C36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700-313B-4CF2-BD2E-EFE4A85C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21D-FFA1-4D39-89C0-52C426D4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618-916C-412E-8D41-20B1E2ED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FBD-67F8-40BB-9FF1-E3E1B074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755-E97C-47DA-83A5-72E1D79B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CD5-E627-4434-B8A4-7F22CAB8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85D-F7B6-45E0-A6D5-D0E853E3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97B-B00F-4A22-A56E-3F1AE231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48F-94C1-4D7C-AB4A-D6308D36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9FE-3704-479A-8A4E-776682A4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CEC0-E537-406E-B791-3A8569179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"Аспекты компетентностно-ориентированного уро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охой учитель преподносит исти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ороший- учит ее наход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.Дистервер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 и приемы в рамках группов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 в парах и в группах по изучению и закреплению нового материала (задания должны быть сформулированы таким образом, чтобы требовались моменты сотрудничества между учащимися, например задание типа «Пазл» (головоломка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ые и практические работы, проводящиеся в парах и группах (их нужно дополнить моментами самостоятельного группового планирования — в начале работы, и самостоятельного группового самооценивания — в конц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пповые мини-проекты (проводятся и презентуются на урок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овые исследовательские и проектные работы любого типа (проводятся в основном во внеурочное врем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левые и делов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ые варианты «технологии работы в группах сотрудниче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формирования учебно-познавательной и ценностно- смысловой компетен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методы и приемы проблемного обучения: проблемный вопрос, проблемная задача, проблемная ситуация, проблемная лекция, проблемный экспери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 проб и ошибок, предполагающий в том числе возможность учащегося сомневаться в своих решениях, возвращаться к началу, исправлять свои оши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ение одной и той же задачи несколькими альтернативными способами; выбор наиболее оптимального из них на основе аргументированного об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 кейсов ( ситуационный семинар, решение ситуационных задач). Метод представляет собой описание конкретной ситуации, требующей практического разрешения. Группе или отдельным учащимся выдается кейс- пакет материалов с разнообразной информацией по проблеме, а также формулировка проблемного 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ые виды проектной деятельности, прежде всего - исследовательские и практико-ориентированные прое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ктические работы поискового и исследовательского характера, имеющие жизненный (бытовой, профессиональный, социальный) контек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я с ограничением по времени, в том числе мини-проекты, реализуемые в рамках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етентностный подход и межпредметная интегр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чебных предметов одной образовательной обл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чебных предметов различных образовательных обла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лассно-урочной и внеурочной/ внеклассной деятельности по предм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сновного образования по предмету и дополнительного образования (кружки, студии, секции, мастерские,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чебной деятельности по предмету и внеучебной  деятельности учащихся и классного коллекти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школьной и внешкольной деятельност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лексивное пространств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флексивный те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флексия в цв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ть, на каком уровне вы находите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бальная форма – методика незаконченного предложения (устная или письменная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ированный диктан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ята, оцените  свое состояние  после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флексия «Классическ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Дневник открытий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флексия «Трактат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емы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т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елляция к жизненному опыту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ылка на то, что приобретаемое сегодня знание понадобится при изучении какого то последующего материала, важность овладения которым сомнения не выз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проблемной ситуации или разрешение парадок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ево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овая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нестандартных задач на смекалку и лог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ы и конкур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ссворды, сканворды, ребусы, творческие сочинения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 формирования информационной компете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иск и сбор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ния на поиск информации в справочной литературе, сети Интернет, путем опросов, интервьюирования, работы с литературными первоисточниками, в музеях, библиотеках и т.д.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 с избытком информации (требуется отделить значимую информацию от «шума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 с недостатком информации (требуется определить, каких именно данных недостает и откуда их можно получи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 формирования информационной компете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ботка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ния на упорядочение информации (выстраивание логических, причинно-следственных связей, хронологическое упорядочение, ранжирова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ление планов к текс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ка вопросов к текс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ление диаграмм, схем, графиков, таблиц и других форм наглядности к текс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ния, связанные с интерпретацией, анализом и обобщением информации, полученной из первоисточников или из учебны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ния по обобщению материалов состоявшейся дискуссии, об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 формирования информационной компете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ача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докладов, сообщений по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плакатов, презентаций МS Роwer Роinт к учебному матери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учебных пособий по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стендов, стенгазет, объявлений, пригласительных билетов, программ мероприятий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 формирования информационной компете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ные мет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и защита рефератов, включая составление плана, выводы, оформление библиограф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ые учебные проекты (индивидуальные и групповые), например проекты типа «Социологический опрос» с последующей интерпретацией и публичным представлением результа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коммуникационные проекты, предполагающие работу в тематических Интернет-форумах и обмен информацией по электронной поч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-исследовательская работа, предполагающая различные методы исследования, в том числе лабораторное наблюдение, эксперимент и др., использование математических методов для обработки полученных данных, а также грамотное представление полученных результатов в форме структурированного научного текста, оформление выводов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 ученических СМИ — печатных, электро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, ориентированные на устную коммуникаци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формы учебного диал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лады и со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левые и деловые игры, предполагающие, в самом общем виде, роли Говорящего и Слушающего, Задающего вопросы и Отвечаю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бные исследования и учебные проекты, требующие проведения опросов, бесед, интервью у разных категорий люд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я, дискуссии, диспу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я психологического тренинга общения, в том числе в конфликтогенных и конфликтных ситуац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упление на защитах учебных исследовательских работ, подготовленных товарищами, в качестве оппон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упление в качестве ведущих на мероприятиях, вечеров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влечение учащихся в работу театральных студ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, ориентированные на письменную коммуникац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левые и деловые игры, предполагающие, в самом общем виде, роли Пишущего и Читаю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е исследования и учебные проекты, требующие проведения анкетирования или письменного интервью с предварительной подготовкой вопросов (опросник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коммуникационные проекты, предполагающие составление текстов для размещения на Интернет-форумах или отправки по электронной почте, а также получение и чтение соответствующих сообщ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заметок и статей в СМИ с учетом целевой аудитор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цензирование учебных исследовательских работ, подготовленных товари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 и приемы в рамках фронтально-индивидуаль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онтальный опрос с предварительным обсуждением ответов (при условии его систематического использования). В условиях некомпетентностного обучения урок, как правило, начинается с опроса, проводимого в фронтально-индивидуальной форме («пинг-понг»), когда за 3-5 минут удается получить ответ на 5-10 вопросов, носящих репродуктивный характер. Вместо этого рекомендуется, сохранив примерно те же временные рамки опроса, сократить число задаваемых вопросов до 2-4, введя в них элементы проблемности. Задав вопрос, учитель отводит 1-2 минуты на обсуждение ответа в парах (а если в классе сформировались работоспособные группы, то и в группах). За это время пара (группа) должна предложить согласованное решение воп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дивидуальные задания для самостоятельной работы проблемного характера, для выполнения которых необходимо привлечение других учащихся. Например, за­дание типа «Головоломка». Это комплексное задание, требующее использования значительного количества информации, распределяется по нескольким учащимся или рабочим группам. Чтобы выполнить задание целиком, учащиеся или группы должны объединить свои усилия и сложить имеющиеся у них фрагменты информации в один целостный пазл (головоломку). Лишь после этого задание может быть выполнено. Еще один вариант пазла — каждая группа готовит свой фрагмент презентации для общеклассного проекта, из этих фрагментов должна сложится целостная, выполненная в едином ключе, без разрывов и нестыковок, презент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08:39:44Z</dcterms:created>
  <dc:creator>Беденко</dc:creator>
  <dc:description/>
  <dc:language>en-US</dc:language>
  <cp:lastModifiedBy>Беденко</cp:lastModifiedBy>
  <dcterms:modified xsi:type="dcterms:W3CDTF">2011-11-23T06:26:40Z</dcterms:modified>
  <cp:revision>8</cp:revision>
  <dc:subject/>
  <dc:title>Слайд 1</dc:title>
</cp:coreProperties>
</file>