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56F-D696-499E-9968-B840E1A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1A7-E612-4A4C-9DF9-17DC0413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2C2-B8E8-4EE8-BA6B-2C1E65C5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2ED-8724-48AB-AF50-D5F5612A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3E5-C9B3-491A-A232-D2621F0A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BEB-8F89-4B64-8BD2-0F0023B8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0C1-A757-42D6-A7C8-2D7B84F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4C7F-3148-4BC7-B6CE-9D9725F2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BC9-B35F-44F8-9451-DF22186C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274-4A4C-459E-88D2-455B47C1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FDF9-4141-4867-A923-E34409B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EAA-3F73-496F-9735-BE32332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B787-1F02-4457-A725-B9D8883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88A3-954E-4173-9218-7939AD9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C86-A4D8-4F43-B5D7-BEC1D40B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66A1-6160-44B1-930E-F5A6F11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343C-C348-4C37-95DE-E737C077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FF9-08F5-4047-9A9E-CF96B61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864-462E-4D90-97E3-158DF5C2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912-780B-4348-A2C6-3EB88E4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D46-5FD7-4AD2-8602-2A03F4A5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FF1-537B-4EFF-88EA-4AFE118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5FF-0BB7-49EF-921D-4396616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162-9863-443F-B360-500126B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4E5-1E23-4656-91C9-A1F7A1E8143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602F-6237-4B0E-9E19-5684D6F96B3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b3a00"/>
                </a:solidFill>
                <a:latin typeface="Garamond"/>
              </a:rPr>
              <a:t>Школа второй ступени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50880" y="3573000"/>
            <a:ext cx="658476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ГОС второго поколения: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петентностно-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Деятельностный подход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хнологии: учебно-исследовательская, проектная деятельность, модульная, методы и приемы КСО, проблемно-ориентированные задания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663300"/>
                </a:solidFill>
                <a:latin typeface="Verdana"/>
              </a:rPr>
              <a:t>Полюс педагог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крытие базовых научных понятий в учебных предметах через цели, способы и средства человеческих действий, лежащих за этими понятиями, которые задаются в виде ситуаций, обеспечивающих самостоятельный поиск и открытие этих средств и способ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663300"/>
                </a:solidFill>
                <a:latin typeface="Verdana"/>
              </a:rPr>
              <a:t>Полюс школьника:</a:t>
            </a:r>
            <a:r>
              <a:rPr b="0" lang="ru-RU" sz="1600" spc="-1" strike="noStrike">
                <a:solidFill>
                  <a:srgbClr val="cc99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можность (у)видеть деятельность в целом; оформление своих инициатив(учебных и социальных); соразмерность замысла - собственным возможностям; освоение проблемного «устройства мира», формулировка собственных проблем; самостоятельное планирование и целеполагание (самостоятельность, инициатива, ответствен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415800"/>
            <a:ext cx="86421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a00"/>
                </a:solidFill>
                <a:latin typeface="Garamond"/>
              </a:rPr>
              <a:t>Компетентностно-деятельностный подход обуславливает изменение общей парадигмы образования, которая находит отражение в переходе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определения цели школьного обучения как усвоения знаний, умений, навыков к определению цели как формированию умения учиться, как компетенции, обеспечивающей овладение новыми компетенциям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«изолированного»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, т.е. от ориентации на учебно-предметное содержание школьных предметов к пониманию учения как процесса образования и порождения смысл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стихийности учебной деятельности ученика к стратегии ее целенаправленной организации и планомерного формирова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индивидуальной формы усвоения знаний к признанию решающей роли учебного сотрудничества в достижении целей обу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a00"/>
                </a:solidFill>
                <a:latin typeface="Garamond"/>
              </a:rPr>
              <a:t>Для  достижения целей</a:t>
            </a:r>
            <a:r>
              <a:rPr b="1" lang="ru-RU" sz="4000" spc="-1" strike="noStrike">
                <a:solidFill>
                  <a:srgbClr val="3b3a00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3b3a00"/>
                </a:solidFill>
                <a:latin typeface="Garamond"/>
              </a:rPr>
              <a:t>ООП основного общего образования необходимо решить целый ряд педагогических и образовательных </a:t>
            </a:r>
            <a:r>
              <a:rPr b="1" i="1" lang="ru-RU" sz="2400" spc="-1" strike="noStrike">
                <a:solidFill>
                  <a:srgbClr val="3b3a00"/>
                </a:solidFill>
                <a:latin typeface="Garamond"/>
              </a:rPr>
              <a:t>задач</a:t>
            </a:r>
            <a:r>
              <a:rPr b="1" lang="ru-RU" sz="2400" spc="-1" strike="noStrike">
                <a:solidFill>
                  <a:srgbClr val="3b3a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дготовить школьников к обучению в старшей школе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формировать ключевые компетентности учащегося: в решении задач и проблем, информационной, коммуникативной,  учебной (образовательной)  компетентност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ить индивидуализацию образовательного процесса на основе широкого использования средств ИКТ, через формирование средств и способов самостоятельного развития и продвижения ученика в образовательном процессе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рганизовать легальную поддержку учебных (урочных и внеурочных), внешкольных и внеучебных образовательных достижений школьников, их проектов и социальной практи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овать развитию подростка как субъекта отношений с людьми, с миром и с собой, предполагающее успешность и самореализацию учащихся в образовательных видах деятельности, а также сохранение и поддержку индивидуальности каждого подрост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b3a00"/>
                </a:solidFill>
                <a:latin typeface="Garamond"/>
              </a:rPr>
              <a:t>При реализации основной образовательной программы достижение указанных целей и задач предполагает создание условий и предоставление возможности для полноценного  освоения  учащимися  следующих  </a:t>
            </a:r>
            <a:r>
              <a:rPr b="1" i="1" lang="ru-RU" sz="2200" spc="-1" strike="noStrike">
                <a:solidFill>
                  <a:srgbClr val="3b3a00"/>
                </a:solidFill>
                <a:latin typeface="Garamond"/>
              </a:rPr>
              <a:t>действий</a:t>
            </a:r>
            <a:r>
              <a:rPr b="1" lang="ru-RU" sz="2200" spc="-1" strike="noStrike">
                <a:solidFill>
                  <a:srgbClr val="3b3a00"/>
                </a:solidFill>
                <a:latin typeface="Garamond"/>
              </a:rPr>
              <a:t>:</a:t>
            </a:r>
            <a:endParaRPr b="0" lang="en-US" sz="2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ициативной пробы самостоятельного продвижения в разделах определенной предметной области (проявление образовательного интереса и образовательной амбиции в индивидуальных образовательных траекториях учащихс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извольного соотнесения  выполняемого  действия и обеспечивающих его знаковых  средств (схем, таблиц, текстов и т.п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извольного перехода от одних знаковых средств к другим и их соотнесение (например, соотнесение графика и формул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ординации предметных способов и средств действий между отдельными  учебными предметами, а также между предметными областями;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амостоятельного владения различными формами  публичного  выражения собственной точки зрения (дискуссия, доклад, эссе и т.п.) и их инициативное опробова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декватной оценки собственного  образовательного продвижения на больших временных отрезках (четверть, полугодие, год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278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3b3a00"/>
                </a:solidFill>
                <a:latin typeface="Verdana"/>
              </a:rPr>
              <a:t>Школа навыка или школ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Verdana"/>
              </a:rPr>
              <a:t>освоения инструментов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В основе Стандарта лежит системно-деятельностный подход, который обеспечивает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готовности к саморазвитию и непрерывному образовани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ирование и конструирование социальной среды развития обучающихся в системе образов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ую учебно-познавательную деятельность обучающихс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роение образовательного процесса с учётом индивидуальных возрастных, психологических и физиологических особенностей обучающих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11480"/>
            <a:ext cx="82296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етентнос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овокупность личных качеств ученика(ценностно-смысловых ориентаций, знаний, умений, навыков, способностей), обусловленных опытом его деятельности в определенной социально и личностно-ориентированной сфе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етент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четкая ориентация на будущее, которая проявляется в возможности построения своего образования с учетом успешности в личностной и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58920" y="115920"/>
            <a:ext cx="7526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ь компетентностн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получение на выходе из школы личности, способной к свободному развитию, творческой инициативе, самостоятельности, конкурентоспособности, мобильности  и умеющей все эти качества применить в жиз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060640"/>
            <a:ext cx="85694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сновные задачи компетентностного под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ние единого понимания компетенции, компетент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работка технологии применения компетент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ование различных форм работы, методов и приёмов для реализации компетент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ние ресурсной базы для реализации компетентностного под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троль над реализацией компетент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ступность информации о реализации компетентност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О чем не забыть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1989000"/>
          <a:ext cx="8348400" cy="3105360"/>
        </p:xfrm>
        <a:graphic>
          <a:graphicData uri="http://schemas.openxmlformats.org/drawingml/2006/table">
            <a:tbl>
              <a:tblPr/>
              <a:tblGrid>
                <a:gridCol w="2635200"/>
                <a:gridCol w="5713200"/>
              </a:tblGrid>
              <a:tr h="99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Основания для выстраивания О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ные формы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растные возмож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-6 классы,  7 классы; 8-9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ая образовательная программа и образовательные результаты (итог 5-ти лет обучения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чностны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ны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тапредметн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628640"/>
            <a:ext cx="84963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1) умение самостоятельно определять цели своего обучения, ставить и формулировать для себя новые задачи в учёбе и познавательной деятельности, развивать мотивы и интересы своей познавательной деятельности;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2) умение самостоятельно планировать пути достижения целей,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) умение соотносить свои действия с планируемыми результатами, осуществлять контроль своей деятельности в процессе достижения результата,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4) умение оценивать правильность выполнения учебной задачи, собственные возможности её решения;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5) владение основами самоконтроля, самооценки, принятия решений и осуществления осознанного выбора в учебной и познавательной деятельности;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6) умение определять понятия, создавать обобщения, устанавливать аналогии, классифицировать, самостоятельно выбирать основания и критерии для классификации, устанавливать причинно-следственные связи, строить логическое рассуждение, умозаключение (индуктивное, дедуктивное и по аналогии) и делать выводы;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7) умение создавать, применять и преобразовывать знаки и символы, модели и схемы для решения учебных и познавательных задач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4200" y="96516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Метапредме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844640"/>
            <a:ext cx="864072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 смысловое чтение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) умение организовывать учебное сотрудничество и совместную деятельность с учителем и сверстниками; работать индивидуально и в группе: находить общее решение и разрешать конфликты на основе согласования позиций и учёта интересов; формулировать, аргументировать и отстаивать своё мнение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) умение осознанно использовать речевые средства в соответствии с задачей коммуникации для выражения своих чувств, мыслей и потребностей; планирования и регуляции своей деятельности; владение устной и письменной речью, монологической контекстной речь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) формирование и развитие компетентности в области использования информационно-коммуникационных технологий (далее ИКТ– компетенции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) формирование и развитие экологического мышления, умение применять его в познавательной, коммуникативной, социальной практике и профессиональной ори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4200" y="96516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Метапредме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" y="538200"/>
            <a:ext cx="72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Критерии уровня сформиров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компетент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560" y="1557360"/>
            <a:ext cx="81378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ровень усвоения учащимися программного материала (образовательного стандар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оказат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личество учащихся с высоким, средним и низким уровнями усвоения образовательного стандар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еспечение педагогическим коллективом динамики продвижения всех групп учащихся в течение учебн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 Положительная мотивация учения, познавательная самостоятельность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казат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оложительные мотивы с преобладанием интереса и ответстве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ова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исципл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ладение основными учебными умениями и навыками само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 Ценности, преобладающие в детских коллективах, ответственность за учебу и поведение, отношение детей в классе, их поведение вне шк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оказат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мыслы и ценности, преобладающие в детских коллекти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зывы окружающих о нравственном облике уча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явление детьми заботливого отношения к окружающ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циально значимая деятельность и гражданская актив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476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Мониторинг результативности внедрения </a:t>
            </a:r>
            <a:br>
              <a:rPr sz="2800"/>
            </a:br>
            <a:r>
              <a:rPr b="1" lang="ru-RU" sz="2800" spc="-1" strike="noStrike">
                <a:solidFill>
                  <a:srgbClr val="3b3a00"/>
                </a:solidFill>
                <a:latin typeface="Garamond"/>
              </a:rPr>
              <a:t>компетентностного подход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349360"/>
            <a:ext cx="8496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Мониторинг осуществляется администрацией школы  (директором, его заместителями), классными руководителями, социологом и психологом. Учитывается результативность во внутришкольной жизни, успехи в учёбе, социальная адаптац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В оценке деятельности могут участвовать родители, управляющий совет и другие заинтересованные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Технология измерения результатов компетентностного подхода определяется на основе государственных станда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9:23:50Z</dcterms:created>
  <dc:creator>Елена</dc:creator>
  <dc:description/>
  <dc:language>en-US</dc:language>
  <cp:lastModifiedBy>Жданова</cp:lastModifiedBy>
  <dcterms:modified xsi:type="dcterms:W3CDTF">2011-11-23T05:10:41Z</dcterms:modified>
  <cp:revision>746</cp:revision>
  <dc:subject/>
  <dc:title>Тенден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